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F667-6E73-4668-A7BD-F4E4EB63A3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3977-4B2B-454C-8D51-CAC0CA28E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5848-2181-4969-A6F9-3AAEDDDC5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85DA-E8D2-4420-9303-F86719ED02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2B34-B078-41EC-BA5F-7948A43A07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5E31-B731-4FED-A3AC-548E51067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9658-B446-4DBF-A675-9184EFAF9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04AD-DE41-4D64-BCB4-002556376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721B-17C2-428E-A829-D8B5ECFA1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EB53-9CA3-4811-8141-48BE6EB81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4BB0-E055-450C-9C9A-217D46D300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DFD3-4ABD-49C8-B4FD-ED70147A0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7E53-47E1-4F3C-B88B-0C9A19751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BE6A-2F90-422D-BA1D-B705C6317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5DD9-3488-4216-BBAA-C1B2BF98F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2DC7-3C98-4353-BF64-EE65C4D97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9C05-A262-45E8-8346-A70A5E9BA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AC8D-BAC2-4314-8E43-C4FEB79D8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C510-84BE-4E54-B00E-5944489F6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B269-4165-4468-B2D4-BBF96B2F9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CDF-9A6E-4233-AD43-7FD963D2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D38-1283-4FC8-B75A-22E55137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2EDA4-2297-48E0-9253-A0618E42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7ACC7-2B5C-424E-974D-71BBE9AC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84683-BD1F-4E93-B38D-3F2E3273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69BE3-79C5-41D8-863D-70686AF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59BE0-65C6-4C53-881F-A7C8630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66E7E-FC0A-4F5C-9D94-4C55FBCB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D56BE-069F-4D41-8961-05EA5D5E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03BC1-72BB-40E5-8977-E2691EF5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E163D-8CD3-4733-822C-ABD9EB46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0B62C-9F12-461E-B18A-EB469240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7DD-1E9B-417B-8993-3C5BEF2F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CAB54-ECF3-4F85-87E2-40431558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CE9AF-FD32-443E-984A-C7F92BF6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5FECB-C93A-46D0-B747-38F64A10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21836-C320-480B-864E-D009CE70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1EC9E-2569-4989-857F-BB316387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578EC-D669-49AD-93D4-D7DE5898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A09F0-AB54-4122-B9E3-37EB85B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E6B1C-0D55-4D28-9D61-2216489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6374A-F9EE-44A6-88AC-DDCE99A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DAA91-13CB-4B40-A737-E06D5C72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678-5A22-4891-B5AF-8197B852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015F0-01D5-43F8-9896-BC70828D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41E9-D6CB-4D71-ACD0-B9FF9C9E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9872C-A9A0-4FF9-9D35-2C5A849B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97B6B-A380-4BA8-8FD5-C1D12830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3063A-2331-45FE-8A47-A3282252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2C30D-FB3E-4F94-8C7F-B29A08E6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539CC-1362-469D-AD51-059C04C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0B37B-B604-4C35-B36F-E2372D59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0AF56-306E-4747-A28A-9F986CF0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BC89C-76C9-4E94-8D7F-932B3BE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4535-E388-4C2A-9E07-1C38FDA8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81D6D-B059-458A-A3EF-62ADA872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F17C1-B5BB-4029-B029-DDCA7624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1B762-B1FA-491C-A86C-8FD2E149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DDCBE-73A6-4D00-8A6C-617433CB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183B6-AF33-4A6B-B3A0-448A154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5DB3B-66E7-4AE1-AE02-6AEF199F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A0B0C-6D97-4465-90FB-21ECC7B9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8A8F9-EF1F-4A11-98EA-29BF381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D9BA8-EED6-47D4-AFEA-12A90CBC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4150A-8A6C-429C-80DC-0EC63B1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EFF3-78ED-4302-BDF6-AC177736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E35E5-7365-4559-9CEE-0336C9D8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CE411-AA21-4474-ADC4-72F64831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D9DE9-6F7C-4003-8296-86787304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5E3E5-3ED9-41E5-9C1A-761A5C7B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AAD3B-57BD-40C1-BE85-A359AC10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13EB-F9E3-4376-A2B5-F7B1DE07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7617-983B-427C-80BB-BB294990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2758-93BD-43BF-9AFF-A9B27BEE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DAE-7864-4813-AE85-8E3C619A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1599-BB3B-4D88-B3E6-93E3C4CC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B66-515C-46C8-93AF-B728FDD6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116C-C6E4-477C-B2B8-008450CD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3E58-0194-47E5-826F-CF6390B0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610D-4268-4361-9B7A-EAF2AD62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C53C-D1FD-46C5-ABA3-B0611DA9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F1A6-8D9F-4632-B425-ABD137FF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8193-D067-4BDB-BDC0-49B498AC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D936-476F-4369-B05E-BD80C59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F61C-4AE7-4697-850A-E75E9563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E91C-FD94-4F37-A1FA-E5B6409C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D3F7-4B7B-4268-9BC3-6E50FDED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3DB-0CE7-4D3E-A8C0-262052FF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4027-E0DB-4163-8DD1-C2194417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57F1-A526-48C9-8C8D-BFE306DE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EDC5-A5F4-470C-963D-79D78B2A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9768-C44E-4148-BCFE-A98BC28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3C72-4BFB-45A7-A0A5-61C1C1AB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192A8-8E79-45C8-8B4F-8D7057F1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9808-C172-4993-801C-58BF37D8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0059-AA98-44E1-8ACE-18BB976C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4A3A-7EBC-480F-A645-C04BB5BC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79343-BB34-4405-AC01-38BECC2F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E72-F945-4BAA-BFF8-38A0D67C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22B9-063F-4380-8936-B6E384B8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14C99-0E27-4AF2-A986-9F73B821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94FAE-9B50-4753-9674-D1A056FE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E495-5427-4C8B-8420-76447CDB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0800-C636-4F26-A6F2-46E10677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BAC3-4090-4927-A7B7-A0087D7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3666-79C4-4E09-B8D0-B29E2F3B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982D5-F295-45DA-B7B5-2C6A9F6E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B8CB1-25C8-4901-AD01-799A43BF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06B62-31D5-49B2-9B1D-3C838E5B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6FA-6F50-4F3F-BFCD-55BE8CDC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AC2F3-6DED-408C-9889-435B3192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8921-146C-44C7-8295-EBDD993E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4405-79F9-41F8-BE8D-C278539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F5C7B-6FED-467F-8C22-CF7296B8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7522B-3D34-44F9-B773-6526BAFD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3E102-56C4-45F9-8BC2-284B08EE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5E09-09D5-41E3-A2D4-CEB5576E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6A721-F827-416E-BF90-3B1A1902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7F86F-76C3-47D6-90E0-B1BA8431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3281A-89C2-47AE-9F65-9992282F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EFF-C343-4D65-9130-F8FD3276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72619-C59E-4C24-969C-7CD7352D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2B83F-7F14-41EE-8048-90EEF2AD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90D3F-D618-4585-BC5A-8E109F7A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F400D-FC20-47F8-8BEC-7890ADFA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09382-E576-4F9B-9602-9D89AFF0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7E91-063B-46E2-BA04-40CE2616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2550-6E36-4A2A-9C54-E1DA62FE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32215-F178-4B0F-BCE1-8BC4707A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0FD9E-A3D3-4B7E-AD41-FCA0E94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1F5D0-87A1-4C3A-ABA3-A304BF3D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2D7-E16A-4805-8CCF-864E45D6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5295-461A-4232-A9AA-DD533915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B3C07-BBE2-4EA8-AFE3-B219179E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98745-8CFD-4869-8801-2AF68535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C966D-B85B-433F-AB36-4C500580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B5E3A-F870-4708-AEC2-B6BC4F09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2A084-82F5-4E10-9205-662A2802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0E80D-6302-4527-A072-263E6428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B571E-101C-4217-B902-878940C3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152B5-0B64-42D2-A3CB-94B78EE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D139B-1CEE-4430-9CBF-4E464B5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C84-C366-4A06-9CDA-37418314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3D8F1-0FFB-4BBB-AFA0-E6B5A973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7F8C-BCB5-4B61-8487-000BF3D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E21F5-D696-4EEC-AF0F-FD455D05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A6457-E585-4B0D-9840-DE2A9118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89C9-E610-486E-971F-B0A31376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17936-D84D-4061-9BBD-8AB941C6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A7150-4A3D-495A-8645-95D38E5E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D4A8E-30A8-441F-B80D-08A3D83D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C094B-8B2C-4D3F-B1DC-999458D3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12292-215C-40F7-8DE1-2A2A017C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E1A-6C2D-46DB-B195-FA6D159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37BC7-FB34-487C-BC92-BE84002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5910F-5A60-43F8-8DC0-66A57294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06FB9-0C42-43FA-B9A1-8B3A5AB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E13BD-D799-4DBA-8F5F-9BBDAA0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3321A-D1CB-4811-81C4-BC6A3575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CA170-664D-42FB-A77F-B5625031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891F0-E9A5-4CFF-A9C5-88BEB01D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FD8EE-9FD7-4DCC-A892-8333F661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6DE02-7030-4CD6-88BF-309A900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9B0B0-CFF3-46C8-89BF-A6491925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02F5-E758-4AB1-BBB8-674B425F42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CCC2-8C03-4A3F-B41B-0825202252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033D-3A65-4E61-915B-FE1B6FC009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E5E3-8CB6-4D62-8E3A-185730B483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A796-0D9F-445C-A918-82ABE1FD26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9BFE-B789-461E-B2B7-0472E9EF95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4DDD-E8C8-4754-9ED7-DF300CE349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0210-857C-42DA-A66D-D7828A1FB8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26D7-B8FB-4E4E-B419-9D98B9510D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36A1-E10C-4BD3-B730-D16096F513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65B2-96A1-4783-A8B2-2A39BDDD5D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9AA7-4DF6-44E4-B719-1492F0BE27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ритериальное оценивание на уроках русского язык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МАОУ Домодедовская СОШ №12 имени полного кавалера ордена Славы В.Д.Пре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Подготовила: Брыкина Н.Е., учитель русского языка и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стоятельная работа по русскому языку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клас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:Второстепенные члены предложения .Приложение»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редложения с наличием приложений( каждому обучающемуся на отдельной карточке №1 распечатаны заран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Грамматическое задание к самостоятельной работе( на тех же карточках №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ритерии оценивания( на отдельных распечатанных карточках №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арточка №3( самопроверки или взаимопров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...тупись о (старец) море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 (свечка) в лунных перьях с...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..рыгунья (стрекоза)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..ик (к...смонавт) Алексей Леонов первый человек вышедший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(историк) рука об руку ш..л с Пушкиным (художником) работая одновреме...о над историей Пугач..ва и над повестью Капитанская д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(царевич) с честью прош...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..ре любитель(рыбо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1( обратная сторона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ое задание к самостоятельной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пишите предложения, вставляя пропущенные буквы и раскрывая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сставьте знак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дчеркните грамматическую основу в предлож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Укажите синтаксическую роль при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2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итерии для оценивания самостоятельной работ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838080" y="1825560"/>
          <a:ext cx="10515600" cy="53942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  <a:gridCol w="2629080"/>
                <a:gridCol w="262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правильных орфограмм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правильных орфограмм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орфограмм -0,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или менее орфограмм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правильно поставленных знаков препинания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правильно поставленных знака препинания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авильно поставленных знака препинания - 0, 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ли менее поставленных знаков препинания -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или менее правильно подчёркнутых грамматических основ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правильно подчёркнутых приложений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 правильно подчёркнутых приложений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правильно подчёркнутых приложений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или менее правильно подчёркнутых приложений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3. Предложения для взаимопроверки и самопроверки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упись, о старец- море,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- свечка в лунных перьях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ыгунья – стрекоза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тчик –космонавт Алексей Леонов – первый человек, вышедший в открытый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-историк рука об руку шёл с Пушкиным-художником, работая над историей Пугачёва и повестью «Капитанская до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-царевич с честью прошё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ере любитель – рыб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осуществляется проверка по критериям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иеся получают Карточку №1 и Карточку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полняют письменно самостоятельную работу и грамматическое задание к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ерез 25-28 минут обмениваются тетрадями, откладывают ручки. Берут ручки с зелёными стерж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учают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существляют проверку работ товар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т обратного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экране выводится материал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читают внимательно , обращая внимание на знаки препинания, орфограммы, словарные слова в течение 2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Через 25-28 минут обмениваются тетрадями . Также сменив ручки с синей пастой на ручки с зелёной па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олучают Карточки №3. Проводят проверку по критериям.Оценивают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особенно эффективен в классе с детьми – инофо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Я САМ...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рточка №3 выводится на эк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в течение 2 минут изучают текст( +функциональная грамотность и вдумчивое чт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самостоятельную работу в течение 25-28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олучают Карточку №3. Проверяют работу каждый СВОЮ. Оценивают по крите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метод можно применить в классе с высоким уровнем сознательности  и ч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ём преимущество КО перед другими приёмами оценивния?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верка работ с использованием критериев способствует объективции оцен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вовлечение в работу всех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позволяет формировать у обучающихся позитивное отношение к и повышению ответственности за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О позволяет воспитывать обучающихся усидчивыми, прилежными и трудолюби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Объект 1114388839" descr=""/>
          <p:cNvPicPr/>
          <p:nvPr/>
        </p:nvPicPr>
        <p:blipFill>
          <a:blip r:embed="rId1"/>
          <a:stretch/>
        </p:blipFill>
        <p:spPr>
          <a:xfrm>
            <a:off x="2228760" y="1825560"/>
            <a:ext cx="773424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ункции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Контрол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в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Воспиты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а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тив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цен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современного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пределение уровня подготовленности обучающегося на каждом этапе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Анализ достижения учениками целей и результатов обучения в соответствии с учебной 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ониторинг индивидуального прогресса каждого обучающегося и коррекция индивидуальной траектории развития обучаю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тивация обучающихся на устранение пробелов в усвоен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фференцирование значимости оценок. Полученных за выполнение различных видов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ниторинг эффективности учеб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Обеспечение обратной связи между учителем, обучающимся и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Объект 1922396450" descr=""/>
          <p:cNvPicPr/>
          <p:nvPr/>
        </p:nvPicPr>
        <p:blipFill>
          <a:blip r:embed="rId1"/>
          <a:stretch/>
        </p:blipFill>
        <p:spPr>
          <a:xfrm>
            <a:off x="1332000" y="365040"/>
            <a:ext cx="8905680" cy="60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ктическая значимость критериального оценивания( КО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 способствует способствует снижению тревожности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формированию у обучающихся навыков самоанализа и  само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формирует чувство ответственности за результат свое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О даёт оценку только работе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 позволяет сравнивать работу обучающегося с эталоном правильно выполне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О позволяет обучающемуся знать алгоритм выставления оценки и самому оценить свою работу или работу сверс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ффективность метода КО в условиях современной школы очевидна. Следует учитывать фактор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бучаются дети разных способностей и накло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еоднородный национальный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Обучающиеся с особ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Обучаются дети из национальных школ с неродным русским язы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Метод критериального оценивания можно применять на разных урока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ах русского языка оцениванию подлежат предметные результат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Объект 1962858185" descr=""/>
          <p:cNvPicPr/>
          <p:nvPr/>
        </p:nvPicPr>
        <p:blipFill>
          <a:blip r:embed="rId1"/>
          <a:stretch/>
        </p:blipFill>
        <p:spPr>
          <a:xfrm>
            <a:off x="3375000" y="1825560"/>
            <a:ext cx="544212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является объектом оценивани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Уст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естов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Учебные работы(сообщения, презентации, схемы по темам урока и проч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Творческие работы (сочинения, проекты, научно-исследовательски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Выразитель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Друг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ак можно организовать работу на практике?..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Демонстрация на наглядном примере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Метод №1  « Три файла»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Объект 31314648" descr=""/>
          <p:cNvPicPr/>
          <p:nvPr/>
        </p:nvPicPr>
        <p:blipFill>
          <a:blip r:embed="rId1"/>
          <a:stretch/>
        </p:blipFill>
        <p:spPr>
          <a:xfrm>
            <a:off x="2286000" y="185904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МЦ</dc:creator>
  <dc:description/>
  <dc:language>en-US</dc:language>
  <cp:lastModifiedBy>УМЦ</cp:lastModifiedBy>
  <dcterms:modified xsi:type="dcterms:W3CDTF">2025-03-25T12:15:45Z</dcterms:modified>
  <cp:revision>8</cp:revision>
  <dc:subject/>
  <dc:title>Критериальное оценивание на уроках русского языка</dc:title>
</cp:coreProperties>
</file>